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4BC-C0EE-4866-BA73-20922480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31C-8C14-45DB-BDDC-3DD34084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8AC-8216-4D24-9246-A1A719FC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01ED-71A6-4CC9-BC48-DDFC26B1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830A8-73D5-4250-8824-48602138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607EE-B49D-4D47-8D84-3B32AD8F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28C9F-32D5-4653-BCAD-3EDF834A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E7D84-E5C1-4881-990C-D0B00AB9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93C31-B2F4-4BCA-8F10-10D8424B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FBDE6-4000-498F-B689-61969239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6065C-A71E-4214-A910-85D50C30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F10-4C70-4EA4-9F0D-2CE52929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39296-003E-44B4-8ADD-022BADB4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2E8F8-CF5E-401D-9462-9497A5DB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ABA0A-DF23-4750-8025-B4FC95BB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EDD8E-37E2-4B00-9FDF-C1BC794A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A2F18-150B-4CAF-AD14-38264F25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9F0-C3BB-4438-9485-49A8A5A4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DE5E-77AE-43A3-96B0-B8863FD9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68C-7FCB-4A7A-95D6-9D4CD840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91B-4FCD-4593-8652-C33B0DFA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7B2D-0611-4974-AAF0-CDDEE5D5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DCF-FF4D-4D63-BFFE-334484FC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16AE-8553-49A3-B55A-C65EF940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D9D3-5AF7-4494-8D59-8253B8AB46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2FE9-B04D-4211-94D1-91B1242281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rds.yahoo.com/_ylt=A0WTb_huXK1Ju0QAPBSJzbkF;_ylu=X3oDMTBqNzBoY2J0BHBvcwMxNARzZWMDc3IEdnRpZAM-/SIG=1q32ugko5/EXP=1236184558/**http%3A//images.search.yahoo.com/images/view%3Fback=http%253A%252F%252Fimages.search.yahoo.com%252Fsearch%252Fimages%253Ffr2%253Dsg-gac%2526sado%253D1%2526p%253Dreduce%252520reuse%252520recycle%2526fr%253Dyfp-t-501%2526ei%253Dutf-8%2526vm%253Dr%2526x%253Dwrt%26w=499%26h=500%26imgurl=static.flickr.com%252F3006%252F2813358646_dfd4c1884a.jpg%26rurl=http%253A%252F%252Fwww.flickr.com%252Fphotos%252Fbuttonbistro%252F2813358646%252F%26size=139.8kB%26name=Go%2BGreen%2BRecycle%2Bpinback%2Bbuttons%2Bor%2Bmagnets%26p=reduce%2Breuse%2Brecycle%26type=JPG%26oid=b8c0d05c9b1e0712%26fusr=button%2Bbistro%26tit=Go%2BGreen%2BRecycle%2Bpinback%2Bbuttons%2Bor%2Bmagnets%26hurl=http%253A%252F%252Fwww.flickr.com%252Fphotos%252Fbuttonbistro%252F%26no=14%26tt=21,850%26sigr=11lpeqvu6%26sigi=11gk4t22l%26sigb=13qmjd2no%26sigh=11aqb2rml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enviroscapes.com/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848720" cy="4724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66680" y="3049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Comic Sans MS"/>
              </a:rPr>
              <a:t>Earth B.E.A.T. 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by: Christopher Le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DDE5B-8FCD-4AEE-A855-322480204B9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March 4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1219320"/>
            <a:ext cx="81532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This program, in association with Keep Rockland Beautiful Inc.,  is designed for elementary and middle school students. Students rotate through 6 to 10 different “eco-stations” which fall under three main them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cc00"/>
                </a:solidFill>
                <a:latin typeface="Comic Sans MS"/>
              </a:rPr>
              <a:t>Getting to know the local ecolo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cc00"/>
                </a:solidFill>
                <a:latin typeface="Comic Sans MS"/>
              </a:rPr>
              <a:t>Protecting our natural resour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cc00"/>
                </a:solidFill>
                <a:latin typeface="Comic Sans MS"/>
              </a:rPr>
              <a:t>Reduce, reuse, and recyc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600"/>
                </a:solidFill>
                <a:uFillTx/>
                <a:latin typeface="Comic Sans MS"/>
              </a:rPr>
              <a:t>What is Earth B.E.A.T.</a:t>
            </a:r>
            <a:r>
              <a:rPr b="1" lang="en-US" sz="2400" spc="-1" strike="noStrike">
                <a:solidFill>
                  <a:srgbClr val="00c6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180972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48520" y="3657600"/>
            <a:ext cx="1904760" cy="1752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5029200"/>
            <a:ext cx="2057400" cy="1600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30600" y="6145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B</a:t>
            </a:r>
            <a:r>
              <a:rPr b="1" lang="en-US" sz="1800" spc="-1" strike="noStrike">
                <a:solidFill>
                  <a:srgbClr val="00c600"/>
                </a:solidFill>
                <a:latin typeface="Comic Sans MS"/>
              </a:rPr>
              <a:t>asic</a:t>
            </a:r>
            <a:r>
              <a:rPr b="0" lang="en-US" sz="1800" spc="-1" strike="noStrike">
                <a:solidFill>
                  <a:srgbClr val="00c6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68680" y="61452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E</a:t>
            </a:r>
            <a:r>
              <a:rPr b="1" lang="en-US" sz="1800" spc="-1" strike="noStrike">
                <a:solidFill>
                  <a:srgbClr val="00c600"/>
                </a:solidFill>
                <a:latin typeface="Comic Sans MS"/>
              </a:rPr>
              <a:t>nvironmental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53560" y="61452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A</a:t>
            </a:r>
            <a:r>
              <a:rPr b="1" lang="en-US" sz="1800" spc="-1" strike="noStrike">
                <a:solidFill>
                  <a:srgbClr val="00c600"/>
                </a:solidFill>
                <a:latin typeface="Comic Sans MS"/>
              </a:rPr>
              <a:t>war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080" y="6145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T</a:t>
            </a:r>
            <a:r>
              <a:rPr b="1" lang="en-US" sz="1800" spc="-1" strike="noStrike">
                <a:solidFill>
                  <a:srgbClr val="00c600"/>
                </a:solidFill>
                <a:latin typeface="Comic Sans MS"/>
              </a:rPr>
              <a:t>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295E-9BE7-4C90-B54C-13ED81CEAD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0"/>
            <a:ext cx="693432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600"/>
                </a:solidFill>
                <a:uFillTx/>
                <a:latin typeface="Comic Sans MS"/>
              </a:rPr>
              <a:t>What is Earth B.E.A.T.</a:t>
            </a:r>
            <a:r>
              <a:rPr b="1" lang="en-US" sz="2400" spc="-1" strike="noStrike">
                <a:solidFill>
                  <a:srgbClr val="00c6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B</a:t>
            </a:r>
            <a:r>
              <a:rPr b="1" lang="en-US" sz="1800" spc="-1" strike="noStrike">
                <a:solidFill>
                  <a:srgbClr val="00c600"/>
                </a:solidFill>
                <a:latin typeface="Comic Sans MS"/>
              </a:rPr>
              <a:t>asic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E</a:t>
            </a:r>
            <a:r>
              <a:rPr b="1" lang="en-US" sz="1800" spc="-1" strike="noStrike">
                <a:solidFill>
                  <a:srgbClr val="00c600"/>
                </a:solidFill>
                <a:latin typeface="Comic Sans MS"/>
              </a:rPr>
              <a:t>nvironmental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A</a:t>
            </a:r>
            <a:r>
              <a:rPr b="1" lang="en-US" sz="1800" spc="-1" strike="noStrike">
                <a:solidFill>
                  <a:srgbClr val="00c600"/>
                </a:solidFill>
                <a:latin typeface="Comic Sans MS"/>
              </a:rPr>
              <a:t>wareness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T</a:t>
            </a:r>
            <a:r>
              <a:rPr b="1" lang="en-US" sz="1800" spc="-1" strike="noStrike">
                <a:solidFill>
                  <a:srgbClr val="00c600"/>
                </a:solidFill>
                <a:latin typeface="Comic Sans MS"/>
              </a:rPr>
              <a:t>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914400"/>
            <a:ext cx="83818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ffcc00"/>
                </a:solidFill>
                <a:latin typeface="Comic Sans MS"/>
              </a:rPr>
              <a:t>Groups will consist of 10 – 12 students eac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ffcc00"/>
                </a:solidFill>
                <a:latin typeface="Comic Sans MS"/>
              </a:rPr>
              <a:t>Each “eco-station” will last approximately 15 - 20 minut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700" spc="-1" strike="noStrike">
                <a:solidFill>
                  <a:srgbClr val="ffcc00"/>
                </a:solidFill>
                <a:latin typeface="Comic Sans MS"/>
              </a:rPr>
              <a:t>There are currently 23 different activities to choose from, including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ljlk"/>
          <p:cNvPicPr/>
          <p:nvPr/>
        </p:nvPicPr>
        <p:blipFill>
          <a:blip r:embed="rId1"/>
          <a:stretch/>
        </p:blipFill>
        <p:spPr>
          <a:xfrm>
            <a:off x="228600" y="1905120"/>
            <a:ext cx="220968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,kj/l"/>
          <p:cNvPicPr/>
          <p:nvPr/>
        </p:nvPicPr>
        <p:blipFill>
          <a:blip r:embed="rId2"/>
          <a:stretch/>
        </p:blipFill>
        <p:spPr>
          <a:xfrm>
            <a:off x="228600" y="4038480"/>
            <a:ext cx="2219400" cy="1981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lkjlkj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2057400"/>
            <a:ext cx="2057400" cy="1743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438280" y="1905120"/>
            <a:ext cx="2971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cc00"/>
                </a:solidFill>
                <a:uFillTx/>
                <a:latin typeface="Comic Sans MS"/>
              </a:rPr>
              <a:t>Habitat Loss</a:t>
            </a:r>
            <a:r>
              <a:rPr b="0" lang="en-US" sz="1500" spc="-1" strike="noStrike">
                <a:solidFill>
                  <a:srgbClr val="ffcc00"/>
                </a:solidFill>
                <a:latin typeface="Comic Sans MS"/>
              </a:rPr>
              <a:t> - like musical chairs, but the tarp -- our habitat -- gets smaller and smaller relative to population, so fewer kids fit onto to it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3886200"/>
            <a:ext cx="3276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cc00"/>
                </a:solidFill>
                <a:uFillTx/>
                <a:latin typeface="Comic Sans MS"/>
              </a:rPr>
              <a:t>Enviroscape model</a:t>
            </a:r>
            <a:r>
              <a:rPr b="0" lang="en-US" sz="1500" spc="-1" strike="noStrike">
                <a:solidFill>
                  <a:srgbClr val="ffcc00"/>
                </a:solidFill>
                <a:latin typeface="Comic Sans MS"/>
              </a:rPr>
              <a:t> -  allows children to squirt "rain" on a typical landscape and see how pollution from various land uses enters waterways. Virtually all schools request this activity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4038480"/>
            <a:ext cx="2819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cc00"/>
                </a:solidFill>
                <a:uFillTx/>
                <a:latin typeface="Comic Sans MS"/>
              </a:rPr>
              <a:t>Wildlife Bingo</a:t>
            </a:r>
            <a:r>
              <a:rPr b="0" lang="en-US" sz="1500" spc="-1" strike="noStrike">
                <a:solidFill>
                  <a:srgbClr val="ffcc00"/>
                </a:solidFill>
                <a:latin typeface="Comic Sans MS"/>
              </a:rPr>
              <a:t> – similar to regular bingo, instead of letters there are various wildlife animals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1200" y="6019920"/>
            <a:ext cx="8469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Some </a:t>
            </a:r>
            <a:r>
              <a:rPr b="1" lang="en-US" sz="1700" spc="-1" strike="noStrike" u="sng">
                <a:solidFill>
                  <a:srgbClr val="ffcc00"/>
                </a:solidFill>
                <a:uFillTx/>
                <a:latin typeface="Comic Sans MS"/>
              </a:rPr>
              <a:t>other stations</a:t>
            </a:r>
            <a:r>
              <a:rPr b="1" lang="en-US" sz="1700" spc="-1" strike="noStrike">
                <a:solidFill>
                  <a:srgbClr val="ffcc00"/>
                </a:solidFill>
                <a:latin typeface="Comic Sans MS"/>
              </a:rPr>
              <a:t>: Garbage Relay, “Survival” Tag, Hudson River Riddles,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cc00"/>
                </a:solidFill>
                <a:latin typeface="Comic Sans MS"/>
              </a:rPr>
              <a:t>    </a:t>
            </a:r>
            <a:r>
              <a:rPr b="1" lang="en-US" sz="1700" spc="-1" strike="noStrike">
                <a:solidFill>
                  <a:srgbClr val="ffcc00"/>
                </a:solidFill>
                <a:latin typeface="Comic Sans MS"/>
              </a:rPr>
              <a:t>Environmental Jeopardy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128-72D1-4CF6-B3EA-2ACAE9C13C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6680" y="457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600"/>
                </a:solidFill>
                <a:uFillTx/>
                <a:latin typeface="Comic Sans MS"/>
              </a:rPr>
              <a:t>Why are we participating in Earth B.E.A.T.</a:t>
            </a:r>
            <a:r>
              <a:rPr b="1" lang="en-US" sz="2400" spc="-1" strike="noStrike">
                <a:solidFill>
                  <a:srgbClr val="00c6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371600"/>
            <a:ext cx="891540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We are one of over 20 schools in Rockland County participating this y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This program will give our students an opportunity to better understand how WE ALL can protect our environment for ourselves and future generation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Environmental “contentiousness” is becoming increasingly important in our socie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Ecology and environmentalism is part of the 7th grade science curricul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This training can lead to more environmental activities in our school and commun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0F61-7D99-4ACA-B7CB-DB29B91045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2286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600"/>
                </a:solidFill>
                <a:uFillTx/>
                <a:latin typeface="Comic Sans MS"/>
              </a:rPr>
              <a:t>How/Who/When will we be participating in Earth B.E.A.T.</a:t>
            </a:r>
            <a:r>
              <a:rPr b="1" lang="en-US" sz="2400" spc="-1" strike="noStrike">
                <a:solidFill>
                  <a:srgbClr val="00c6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19320"/>
            <a:ext cx="9144000" cy="54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2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The logistics of the program are as follow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4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Date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- Thursday, April 2nd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4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Time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- 12:00 to 3:00 PM (Periods 5 – 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4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Location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- Gymnasi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4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Layout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- Two to three stations for each of the three main the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- East and West teams will be split on either side of the gymnas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- Each team will have similar “eco-stations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400">
              <a:lnSpc>
                <a:spcPct val="11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Comic Sans MS"/>
              </a:rPr>
              <a:t>Participants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- All 7th grade students and their teachers will participate        this y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400">
              <a:lnSpc>
                <a:spcPct val="11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Teachers/parent volunteers will receive training to act as activity leaders for the various s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400"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Comic Sans MS"/>
              </a:rPr>
              <a:t>Further information regarding teacher training and specific “eco-stations” will be coming via e-mail in the next couple of wee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2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08FF-ED1D-4969-A92C-D223030746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3:24:48Z</dcterms:created>
  <dc:creator>North Rockland Schools</dc:creator>
  <dc:description/>
  <dc:language>en-US</dc:language>
  <cp:lastModifiedBy>North Rockland Schools</cp:lastModifiedBy>
  <dcterms:modified xsi:type="dcterms:W3CDTF">2009-03-03T22:07:26Z</dcterms:modified>
  <cp:revision>16</cp:revision>
  <dc:subject/>
  <dc:title>Slide 1</dc:title>
</cp:coreProperties>
</file>